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53F-6F7A-41A7-8534-930078DB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164-52D3-47C8-B85D-46436E1F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C59-BDF5-4008-940C-190599D8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472-ACED-401C-989E-89740E33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0A4-6F86-465D-AA18-975F2A4B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17F-F3DA-44D2-BC3F-E640C6E4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CA42-583C-46F9-89DE-74E115EB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152-BDC0-42DF-9DCE-30069A4C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FB1-A768-4BCE-B6C4-CA96ED7A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489-FD21-4863-B3A5-F27C6B2C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C3D-E014-4F7F-90E3-711B0B42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B68-AEE0-4F21-922F-5B92305F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E62F-DB80-4F05-9941-A77DAFB1F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Lidar Top View"/>
          <p:cNvPicPr/>
          <p:nvPr/>
        </p:nvPicPr>
        <p:blipFill>
          <a:blip r:embed="rId1"/>
          <a:stretch/>
        </p:blipFill>
        <p:spPr>
          <a:xfrm>
            <a:off x="2857680" y="1371600"/>
            <a:ext cx="160020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95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28573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MI_EAE3_001775_00002_00020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51:20Z</dcterms:created>
  <dc:creator>woodalj</dc:creator>
  <dc:description/>
  <dc:language>en-US</dc:language>
  <cp:lastModifiedBy>woodalj</cp:lastModifiedBy>
  <dcterms:modified xsi:type="dcterms:W3CDTF">2008-04-08T18:58:38Z</dcterms:modified>
  <cp:revision>2</cp:revision>
  <dc:subject/>
  <dc:title>Slide 1</dc:title>
</cp:coreProperties>
</file>