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7820-09D6-4363-BE6A-ECF657439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251C-C7C1-435A-B5C6-B1A72AA92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BEA-CBD1-430D-B6C4-C74A8427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2EE-C564-421E-82C6-25EA98C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396-73D8-4A67-BBC7-6C047CA7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51B-BC9C-46E3-9166-D895DCD1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DA9-BD2E-4838-BD27-73DB950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FD7-7AE1-4417-9F68-3D3A27A1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8F2-6357-4237-8DB6-C59C970F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0BF-54E8-4312-98ED-4AF661B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AD1-F5C7-4D56-8961-D82E8097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883-64BD-48D1-B18F-35A273A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9B7-54CC-4E83-A7EC-53FDA44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CEF-E490-4DEC-817F-CD47B3A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0F9E-FF68-46F8-9B97-2C58887B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ance, Navigation, &amp;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066680"/>
            <a:ext cx="641988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/L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DAR system will be used to control, navigate, and stabilize while in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L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ator at mission control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ly navigate lander/r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face Stereo Imager (SSI) periscopic, panoramic camera will be used to survey the lunar surface, provide range maps in support of sampling operations, and to m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r dust cloud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2063880" cy="1649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Lidar Top View"/>
          <p:cNvPicPr/>
          <p:nvPr/>
        </p:nvPicPr>
        <p:blipFill>
          <a:blip r:embed="rId2"/>
          <a:stretch/>
        </p:blipFill>
        <p:spPr>
          <a:xfrm>
            <a:off x="6781680" y="1752480"/>
            <a:ext cx="19288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s Descent Imager (MARDI) will be used to view the both the penetrator dispersion and the landing/descent of the Cycl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E RAD750 will be used for all control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ance, Navigation, &amp;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3962520" cy="31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4648320"/>
            <a:ext cx="2816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7:58:30Z</dcterms:created>
  <dc:creator>woodalj</dc:creator>
  <dc:description/>
  <dc:language>en-US</dc:language>
  <cp:lastModifiedBy>woodalj</cp:lastModifiedBy>
  <dcterms:modified xsi:type="dcterms:W3CDTF">2008-04-23T20:46:51Z</dcterms:modified>
  <cp:revision>5</cp:revision>
  <dc:subject/>
  <dc:title>Trajectory</dc:title>
</cp:coreProperties>
</file>